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66C-70F6-4AE6-AA1A-9F937327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C1C-4FCE-4EA5-BCA3-DC6141F9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C98-FB7C-4D71-B170-58E03642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3FC-BBC1-44F7-885A-C590E383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32B-EC41-424F-AAD2-1F6DE28F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B58-2572-4CA2-A58D-92CEE9CF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B66-6C5D-47ED-9061-C0A8F095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E2E-6E8B-4265-A2A2-45C40D7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214-097D-4E9E-B64C-BE9CD2A0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59C-AB20-4D94-A395-C0D8AAE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BA9-4241-457D-8E53-454BA04E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3B0-DB1B-40CA-8334-ED45B96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39E2-8163-439C-9E52-5AFCB1BB2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Meas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chael T. Rapp, MD, JD, FAC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Quality Measurement &amp; Health Assessment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aren Mil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D92-E409-4785-A9F7-1C11D28786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Using and Combining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asures are not equal. Combinations could be flexible.  For example, well-accepted measures affecting larger numbers of beneficiaries could get more weigh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chanism for creating compos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ing both attainment of set threshold of performance and improvement on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eraction between quality and resource us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ing at different levels of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45D-9256-40DC-8264-CD3BC4FE39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ich quality and resource use measures best achieve the stated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the Plan focus solely on individual practices, or is there a way to broaden accoun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rategies for measurement best address the technical challenge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n current and potential data sources, which measures and level of accountability would be m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f combinations of measures are used, should they be equally weighted?  If not, which should receive more or les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874-4763-4922-8167-7E2E6889C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60D-E476-4943-A16C-7F9539AE2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e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Qualit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Resource U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nit of Measurement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bin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95B-F92C-4A76-A34F-C4E1CF9585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key dimensions of quality, with attention to outcomes, cost of care, patient experience, care coordination, prevention, and adoption and use of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mmodate the continued evolution and incorporation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measures across providers and setting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just measurement data for fairness, wh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C7A-72E9-40C5-B017-C4B2A267E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orporate quality and resource us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ild on curren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lance the precision of a measure with the manner in which i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coordination with other providers to the exten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ek to align Medicare efforts with other 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34E-9A42-4DAC-8C2D-E9BDD63D0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undant data, but limited scope at physician practice level and at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ugmen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road scope of measures and 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enefits of augmented claims plus capt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linical, primary source data; EHR us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Colle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86C-0CB6-43DF-9815-D8ACDEFCB0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nchmarking/Pe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isk-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ers (resource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essionals and CM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D0C-B208-4C75-97F8-B747D2E428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Quality Meas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nical proces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comes, including intermediate, such as HgbA1c levels, and longer term, such as potentially avoidable ad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ructural, such as EHR use and e-prescri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 perception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67B-66C6-42BC-B717-45C2E0DD37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source Use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sibl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specifi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uld be used in combinatio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82E-747D-481A-BD50-E352D32E93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ccountable Entity and Unit of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dividu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rou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untable care entit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bination?  For example, re-admissions at the system level and PQRI for individual physic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3B4-B438-47BC-8683-686BEE78DE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5:04Z</dcterms:created>
  <dc:creator>CMS</dc:creator>
  <dc:description/>
  <dc:language>en-US</dc:language>
  <cp:lastModifiedBy>CMS</cp:lastModifiedBy>
  <dcterms:modified xsi:type="dcterms:W3CDTF">2008-12-08T15:39:29Z</dcterms:modified>
  <cp:revision>14</cp:revision>
  <dc:subject/>
  <dc:title>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2570744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